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214D-4B8B-43A1-B7A5-523724C7B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DB7F-F383-43BC-BBFA-69C7E655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4456-0198-488A-B4D8-7AE0FBC6B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A660-DB30-4B0B-8FFF-AA0FB26F8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FB64-4156-4E21-9CB2-DB1F7603C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3DEF-4381-4648-BD30-6D4733D4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269D-FA7C-463A-B66B-D2110D44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D828-1970-421B-9643-498F9608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5843-CE82-41F1-9582-41B9F76A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B001-45DD-4089-9459-A3980071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24DD-E37C-4C12-B77A-105828AA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4545-FFDC-4809-912D-27A73D00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59AC-9414-454E-9911-F831EC95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332C-7651-469D-BCB5-2BC09244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DF1E-2310-4573-9558-D539018E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BE3D-958A-4E8D-8EE2-1789EA73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0B23-7474-493B-92F8-FB26ADDE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5002-B064-44DF-9D9A-9E61C539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3EE8-FC7E-4764-89F6-FB466377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0EF2-F220-4B6F-9259-75A4900D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5156-8611-47BF-9925-CC164E93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B33E-455E-4BA9-BC0F-32469796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0F18-5A30-423E-AE56-1B9DDE51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0F07-F48D-4C39-A32D-CFA23FDA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cc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cc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A612-7DFA-4316-B3A4-EDFF9374F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00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cc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5582-815B-4D96-A382-A50166CFDF6A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Chapter 1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430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Measurement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Units of Measur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2133720"/>
            <a:ext cx="6476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etric System (SI)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cc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s a decimal system based on 1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cc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sed in most of the worl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cc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sed by scientists and hospit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Units in the Metric System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ff00ff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length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Times New Roman"/>
              </a:rPr>
              <a:t>meter</a:t>
            </a:r>
            <a:r>
              <a:rPr b="1" lang="en-US" sz="30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Times New Roman"/>
              </a:rPr>
              <a:t>  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ff00ff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Times New Roman"/>
              </a:rPr>
              <a:t>liter</a:t>
            </a:r>
            <a:r>
              <a:rPr b="1" lang="en-US" sz="30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Times New Roman"/>
              </a:rPr>
              <a:t> 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ff00ff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ass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Times New Roman"/>
              </a:rPr>
              <a:t>gram</a:t>
            </a:r>
            <a:r>
              <a:rPr b="1" lang="en-US" sz="30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Times New Roman"/>
              </a:rPr>
              <a:t>  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ff00ff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r>
              <a:rPr b="1" lang="en-US" sz="30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Times New Roman"/>
              </a:rPr>
              <a:t>Celsius </a:t>
            </a:r>
            <a:r>
              <a:rPr b="1" lang="en-US" sz="30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Times New Roman"/>
              </a:rPr>
              <a:t>°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tating a Measurement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every measurement there is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70000"/>
              </a:lnSpc>
              <a:spcBef>
                <a:spcPts val="901"/>
              </a:spcBef>
              <a:buClr>
                <a:srgbClr val="66ff33"/>
              </a:buClr>
              <a:buSzPct val="11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umb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followed by 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70000"/>
              </a:lnSpc>
              <a:spcBef>
                <a:spcPts val="901"/>
              </a:spcBef>
              <a:buClr>
                <a:srgbClr val="66ff33"/>
              </a:buClr>
              <a:buSzPct val="11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Unit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rom measuring dev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632484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hat is the unit of measurement in each of the following examples?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patient’s temperature is 102°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ack holds 5 lbs of potato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It is 8 miles from your house to schoo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bottle holds 2 L of orange so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°F (degrees Fahrenheit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B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lbs (pound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il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L (liter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fy the measurement in metric uni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John’s heigh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1.5 yard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6 fee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2 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he volume of saline in the IV bottl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1 liter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1 quar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2 p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he mass of a lem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12 ounce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2)  145 gram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0.6 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153200" y="228600"/>
            <a:ext cx="199080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John’s heigh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2 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he volume of saline in the IV bottl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1 liter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he mass of a lem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145 gram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easurement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You are making a measurement when yo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51"/>
              </a:spcBef>
              <a:buClr>
                <a:srgbClr val="ff3399"/>
              </a:buClr>
              <a:buSzPct val="11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heck you weigh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51"/>
              </a:spcBef>
              <a:buClr>
                <a:srgbClr val="ff3399"/>
              </a:buClr>
              <a:buSzPct val="11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ead your watc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51"/>
              </a:spcBef>
              <a:buClr>
                <a:srgbClr val="ff3399"/>
              </a:buClr>
              <a:buSzPct val="11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ke your temperat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51"/>
              </a:spcBef>
              <a:buClr>
                <a:srgbClr val="ff3399"/>
              </a:buClr>
              <a:buSzPct val="11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eigh a cantalou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hat kinds of measurements did you make today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696276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tandards of Measurement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we measure, we use a measuring tool to compare some dimension of an object to a stand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038480" y="3505320"/>
            <a:ext cx="2535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382320"/>
            <a:ext cx="67770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me Tools for Measurement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96660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638680" y="2590920"/>
            <a:ext cx="2286000" cy="622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172200" y="4038480"/>
            <a:ext cx="207180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352680" y="2438280"/>
            <a:ext cx="978120" cy="1117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362320" y="4572000"/>
            <a:ext cx="205740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7400" y="617040"/>
            <a:ext cx="541008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rom the previous slide, state the tool (s) you  would use to meas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 temperatu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 volum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C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im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D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weigh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4760" y="617040"/>
            <a:ext cx="563868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m the previous slide, state the tool (s) you  would use to mea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temperatu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66ff33"/>
                </a:solidFill>
                <a:uFillTx/>
                <a:latin typeface="Times New Roman"/>
              </a:rPr>
              <a:t>thermometer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B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olum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66ff33"/>
                </a:solidFill>
                <a:uFillTx/>
                <a:latin typeface="Times New Roman"/>
              </a:rPr>
              <a:t>measuring cup,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66ff33"/>
                </a:solidFill>
                <a:uFillTx/>
                <a:latin typeface="Times New Roman"/>
              </a:rPr>
              <a:t>graduated cyli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C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im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66ff33"/>
                </a:solidFill>
                <a:uFillTx/>
                <a:latin typeface="Times New Roman"/>
              </a:rPr>
              <a:t>wat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weigh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66ff33"/>
                </a:solidFill>
                <a:uFillTx/>
                <a:latin typeface="Times New Roman"/>
              </a:rPr>
              <a:t>scale</a:t>
            </a:r>
            <a:r>
              <a:rPr b="0" lang="en-US" sz="32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467480" cy="1371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easurement in Chemistry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 chemistry w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10000"/>
              </a:lnSpc>
              <a:spcBef>
                <a:spcPts val="751"/>
              </a:spcBef>
              <a:buClr>
                <a:srgbClr val="ff3399"/>
              </a:buClr>
              <a:buSzPct val="11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 experim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10000"/>
              </a:lnSpc>
              <a:spcBef>
                <a:spcPts val="751"/>
              </a:spcBef>
              <a:buClr>
                <a:srgbClr val="ff3399"/>
              </a:buClr>
              <a:buSzPct val="11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easure quantit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10000"/>
              </a:lnSpc>
              <a:spcBef>
                <a:spcPts val="751"/>
              </a:spcBef>
              <a:buClr>
                <a:srgbClr val="ff3399"/>
              </a:buClr>
              <a:buSzPct val="11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se numbers to report measurem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791320" y="2286000"/>
            <a:ext cx="289548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520" y="617040"/>
            <a:ext cx="741996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hat are some U.S. units that are used to measure each of the following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 length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  volume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 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  tem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467480" y="3200400"/>
            <a:ext cx="103032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ome possible answers a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. length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ch, foot, yard, mil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. volume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up, teaspoon, gallon, pint, quart</a:t>
            </a:r>
            <a:r>
              <a:rPr b="1" lang="en-US" sz="30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. weight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unce,  pound (lb), t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. temperature 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7T01:28:12Z</dcterms:created>
  <dc:creator>Karen Timberlake</dc:creator>
  <dc:description/>
  <dc:language>en-US</dc:language>
  <cp:lastModifiedBy>Timberlake</cp:lastModifiedBy>
  <cp:lastPrinted>1999-05-16T17:54:20Z</cp:lastPrinted>
  <dcterms:modified xsi:type="dcterms:W3CDTF">2002-10-03T13:50:28Z</dcterms:modified>
  <cp:revision>8</cp:revision>
  <dc:subject/>
  <dc:title>Chapter 1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